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BA9-34AD-4F2F-AC73-BEA84353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A15-A6FC-4728-A258-EA6F8DD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AE0-6D86-4478-B3A6-0CBD24D0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422-A6AE-40DB-B631-E1BE966C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43C-90AA-4EF4-8425-3947ECC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B84-5E92-4A90-93F7-3D3653C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13A-E989-4FC6-9318-02FF5E1F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98E-E2B8-4A40-8BB9-2884E46C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2D5-731F-4AB6-BEF0-540E3C2E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1C1-3969-4B11-B1B1-83EFC41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E5F-EF0F-4D6B-863E-C92FF7A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595-5C79-48F5-9178-0F7D2EF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16D7-1E33-45AD-A523-09E278BE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es, Direc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315440000[1]"/>
          <p:cNvPicPr/>
          <p:nvPr/>
        </p:nvPicPr>
        <p:blipFill>
          <a:blip r:embed="rId1"/>
          <a:stretch/>
        </p:blipFill>
        <p:spPr>
          <a:xfrm>
            <a:off x="3657600" y="228600"/>
            <a:ext cx="2286000" cy="187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is a LARGE cavity and is divided into regions or s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ethod: quadrant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Q, LUQ, LLQ, RL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Pj04023220000[1]"/>
          <p:cNvPicPr/>
          <p:nvPr/>
        </p:nvPicPr>
        <p:blipFill>
          <a:blip r:embed="rId1"/>
          <a:stretch/>
        </p:blipFill>
        <p:spPr>
          <a:xfrm>
            <a:off x="7086600" y="4191120"/>
            <a:ext cx="1492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pigas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umbil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umbilicus or belly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ypogas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w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HM00249_0000[1]"/>
          <p:cNvPicPr/>
          <p:nvPr/>
        </p:nvPicPr>
        <p:blipFill>
          <a:blip r:embed="rId1"/>
          <a:stretch/>
        </p:blipFill>
        <p:spPr>
          <a:xfrm>
            <a:off x="6019920" y="3809880"/>
            <a:ext cx="1790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lum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ngu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g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HM00260_0000[1]"/>
          <p:cNvPicPr/>
          <p:nvPr/>
        </p:nvPicPr>
        <p:blipFill>
          <a:blip r:embed="rId1"/>
          <a:stretch/>
        </p:blipFill>
        <p:spPr>
          <a:xfrm>
            <a:off x="5638680" y="1905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would be difficult to apply these terms to the human body and other directional terms have been appli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Cj0391082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178272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ary lines drawn through the body @ various parts to separate the body into s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293234"/>
          <p:cNvPicPr/>
          <p:nvPr/>
        </p:nvPicPr>
        <p:blipFill>
          <a:blip r:embed="rId1"/>
          <a:stretch/>
        </p:blipFill>
        <p:spPr>
          <a:xfrm>
            <a:off x="3505320" y="4114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Main Body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Transverse plane- horizontal and divides the body into top half and bottom ha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Midsagittal-median-divides body into right and left sides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Cj03970600000[1]"/>
          <p:cNvPicPr/>
          <p:nvPr/>
        </p:nvPicPr>
        <p:blipFill>
          <a:blip r:embed="rId1"/>
          <a:stretch/>
        </p:blipFill>
        <p:spPr>
          <a:xfrm>
            <a:off x="4114800" y="3581280"/>
            <a:ext cx="887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Body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Frontal –divides the body into  front and back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338890000[1]"/>
          <p:cNvPicPr/>
          <p:nvPr/>
        </p:nvPicPr>
        <p:blipFill>
          <a:blip r:embed="rId1"/>
          <a:stretch/>
        </p:blipFill>
        <p:spPr>
          <a:xfrm>
            <a:off x="3505320" y="3276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s within the body that contains vital orga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PE07305_0000[1]"/>
          <p:cNvPicPr/>
          <p:nvPr/>
        </p:nvPicPr>
        <p:blipFill>
          <a:blip r:embed="rId1"/>
          <a:stretch/>
        </p:blipFill>
        <p:spPr>
          <a:xfrm>
            <a:off x="2590920" y="2819520"/>
            <a:ext cx="3678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Main Body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orsal cavity is one long, continuous cavity located on the back of the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o known as the posterior or back por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PE07304_0000[1]"/>
          <p:cNvPicPr/>
          <p:nvPr/>
        </p:nvPicPr>
        <p:blipFill>
          <a:blip r:embed="rId1"/>
          <a:stretch/>
        </p:blipFill>
        <p:spPr>
          <a:xfrm>
            <a:off x="5281560" y="4267080"/>
            <a:ext cx="2114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Type of Body 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ral cavities are larger than the dorsal cavitie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known as the anterior or front cav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Thorac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Abd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Pelv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Orbital-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Nasal-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Buccal-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9:19:33Z</dcterms:created>
  <dc:creator>Technology</dc:creator>
  <dc:description/>
  <dc:language>en-US</dc:language>
  <cp:lastModifiedBy>Krista</cp:lastModifiedBy>
  <dcterms:modified xsi:type="dcterms:W3CDTF">2011-01-11T05:13:07Z</dcterms:modified>
  <cp:revision>12</cp:revision>
  <dc:subject/>
  <dc:title>Body Planes, Direction,  and Cavities</dc:title>
</cp:coreProperties>
</file>